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6DEE-C2E3-4E5B-9A7E-174ECF53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387E-6E89-4D22-A3E6-4450441D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4E4D-D8F9-49DE-BCC4-2312AFFC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084E-DBE6-418C-948E-D83E6DAA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C23C-CC64-488D-A1EC-36F1AB5D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4BFB-DF7A-47D1-AD85-C794BC7B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8044-F51F-4728-8FE4-254D4DE4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3D38-616D-49E7-A12C-280E0AA6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F64F-9D39-43A3-8965-8D6F0523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5A15-FB18-4946-B9B6-C9A8A38B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6F05-AEAD-4B01-BDDE-143ADDF1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169C-EF06-441E-A52B-2C95AA70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chite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chite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chite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chite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chite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chite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chite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BEE7-43D7-4DDD-8827-2F4D9198F115}" type="slidenum">
              <a:rPr b="0" lang="en-US" sz="1400" spc="-1" strike="noStrike">
                <a:solidFill>
                  <a:srgbClr val="000000"/>
                </a:solidFill>
                <a:latin typeface="Archite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6.xml"/><Relationship Id="rId5" Type="http://schemas.openxmlformats.org/officeDocument/2006/relationships/slide" Target="slide11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5.xml"/><Relationship Id="rId9" Type="http://schemas.openxmlformats.org/officeDocument/2006/relationships/slide" Target="slide4.xml"/><Relationship Id="rId10" Type="http://schemas.openxmlformats.org/officeDocument/2006/relationships/slide" Target="slide3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9.xml"/><Relationship Id="rId14" Type="http://schemas.openxmlformats.org/officeDocument/2006/relationships/slide" Target=""/><Relationship Id="rId15" Type="http://schemas.openxmlformats.org/officeDocument/2006/relationships/slide" Target="slide8.xml"/><Relationship Id="rId16" Type="http://schemas.openxmlformats.org/officeDocument/2006/relationships/slide" Target="slide8.xml"/><Relationship Id="rId17" Type="http://schemas.openxmlformats.org/officeDocument/2006/relationships/slide" Target="slide14.xml"/><Relationship Id="rId18" Type="http://schemas.openxmlformats.org/officeDocument/2006/relationships/slide" Target="slide13.xml"/><Relationship Id="rId19" Type="http://schemas.openxmlformats.org/officeDocument/2006/relationships/slide" Target="slide15.xml"/><Relationship Id="rId20" Type="http://schemas.openxmlformats.org/officeDocument/2006/relationships/slide" Target="slide14.xml"/><Relationship Id="rId21" Type="http://schemas.openxmlformats.org/officeDocument/2006/relationships/slide" Target="slide17.xml"/><Relationship Id="rId22" Type="http://schemas.openxmlformats.org/officeDocument/2006/relationships/slide" Target="slide16.xml"/><Relationship Id="rId23" Type="http://schemas.openxmlformats.org/officeDocument/2006/relationships/slide" Target="slide21.xml"/><Relationship Id="rId24" Type="http://schemas.openxmlformats.org/officeDocument/2006/relationships/slide" Target="slide20.xml"/><Relationship Id="rId25" Type="http://schemas.openxmlformats.org/officeDocument/2006/relationships/slide" Target="slide19.xml"/><Relationship Id="rId26" Type="http://schemas.openxmlformats.org/officeDocument/2006/relationships/slide" Target="slide19.xml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imeforkids.com/TFK/magazines/storycover/0,6262,50644,00.html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ikids.com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famouspoetsandpoems.com/poets/shel_silverstein/poems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hyperlink" Target="http://en.wikisource.org/wiki/The_Wonderful_Wizard_of_Oz/Chapter_1" TargetMode="External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acificnet.net/~johnr/aesop/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cholastic.com/dearamerica/books/timeline/index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ibrary.thinkquest.org/05aug/00509/" TargetMode="External"/><Relationship Id="rId2" Type="http://schemas.openxmlformats.org/officeDocument/2006/relationships/hyperlink" Target="http://www.zillions.org/index.html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consumerreports.org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consumerreports.org/" TargetMode="External"/><Relationship Id="rId7" Type="http://schemas.openxmlformats.org/officeDocument/2006/relationships/image" Target="../media/image4.png"/><Relationship Id="rId8" Type="http://schemas.openxmlformats.org/officeDocument/2006/relationships/hyperlink" Target="http://www.zillions.org/index.html" TargetMode="Externa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ationalgeographic.com/world/archive/index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eacher.scholastic.com/researchtools/articlearchives/index.htm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imeforkids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hyfiles.org/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www.whyfiles.org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utritionexplorations.org/kids/kitchen-main.asp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imeforkids.com/TFK/news/index.html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4"/>
          <p:cNvSpPr/>
          <p:nvPr/>
        </p:nvSpPr>
        <p:spPr>
          <a:xfrm>
            <a:off x="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1" action="ppaction://hlinksldjump"/>
              </a:rPr>
              <a:t>Student 6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42" name="AutoShape 15"/>
          <p:cNvSpPr/>
          <p:nvPr/>
        </p:nvSpPr>
        <p:spPr>
          <a:xfrm>
            <a:off x="22860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2" action="ppaction://hlinksldjump"/>
              </a:rPr>
              <a:t>Student 12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43" name="AutoShape 16"/>
          <p:cNvSpPr/>
          <p:nvPr/>
        </p:nvSpPr>
        <p:spPr>
          <a:xfrm>
            <a:off x="45720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3" action="ppaction://hlinksldjump"/>
              </a:rPr>
              <a:t>Student 18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44" name="AutoShape 18"/>
          <p:cNvSpPr/>
          <p:nvPr/>
        </p:nvSpPr>
        <p:spPr>
          <a:xfrm>
            <a:off x="0" y="4876920"/>
            <a:ext cx="2286000" cy="987480"/>
          </a:xfrm>
          <a:custGeom>
            <a:avLst/>
            <a:gdLst>
              <a:gd name="textAreaLeft" fmla="*/ 63720 w 2286000"/>
              <a:gd name="textAreaRight" fmla="*/ 2222280 w 2286000"/>
              <a:gd name="textAreaTop" fmla="*/ 63720 h 987480"/>
              <a:gd name="textAreaBottom" fmla="*/ 923760 h 987480"/>
            </a:gdLst>
            <a:ahLst/>
            <a:rect l="textAreaLeft" t="textAreaTop" r="textAreaRight" b="textAreaBottom"/>
            <a:pathLst>
              <a:path w="49993" h="21600">
                <a:moveTo>
                  <a:pt x="0" y="0"/>
                </a:moveTo>
                <a:lnTo>
                  <a:pt x="49993" y="0"/>
                </a:lnTo>
                <a:lnTo>
                  <a:pt x="49993" y="21600"/>
                </a:lnTo>
                <a:lnTo>
                  <a:pt x="0" y="21600"/>
                </a:lnTo>
                <a:close/>
              </a:path>
              <a:path fill="lightenLess" w="49993" h="21600">
                <a:moveTo>
                  <a:pt x="0" y="0"/>
                </a:moveTo>
                <a:lnTo>
                  <a:pt x="49993" y="0"/>
                </a:lnTo>
                <a:lnTo>
                  <a:pt x="48593" y="1400"/>
                </a:lnTo>
                <a:lnTo>
                  <a:pt x="1400" y="1400"/>
                </a:lnTo>
                <a:close/>
              </a:path>
              <a:path fill="darken" w="49993" h="21600">
                <a:moveTo>
                  <a:pt x="49993" y="0"/>
                </a:moveTo>
                <a:lnTo>
                  <a:pt x="49993" y="21600"/>
                </a:lnTo>
                <a:lnTo>
                  <a:pt x="48593" y="20200"/>
                </a:lnTo>
                <a:lnTo>
                  <a:pt x="48593" y="1400"/>
                </a:lnTo>
                <a:close/>
              </a:path>
              <a:path fill="darkenLess" w="49993" h="21600">
                <a:moveTo>
                  <a:pt x="49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93" y="20200"/>
                </a:lnTo>
                <a:close/>
              </a:path>
              <a:path fill="lighten" w="49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4" action="ppaction://hlinksldjump"/>
              </a:rPr>
              <a:t>Student 5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45" name="AutoShape 19"/>
          <p:cNvSpPr/>
          <p:nvPr/>
        </p:nvSpPr>
        <p:spPr>
          <a:xfrm>
            <a:off x="2286000" y="48769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5" action="ppaction://hlinksldjump"/>
              </a:rPr>
              <a:t>Student 11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46" name="AutoShape 20"/>
          <p:cNvSpPr/>
          <p:nvPr/>
        </p:nvSpPr>
        <p:spPr>
          <a:xfrm>
            <a:off x="4572000" y="48769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6" action="ppaction://hlinksldjump"/>
              </a:rPr>
              <a:t>Student 17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47" name="AutoShape 21"/>
          <p:cNvSpPr/>
          <p:nvPr/>
        </p:nvSpPr>
        <p:spPr>
          <a:xfrm>
            <a:off x="6858000" y="48769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7" action="ppaction://hlinksldjump"/>
              </a:rPr>
              <a:t>Student 23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48" name="AutoShape 22"/>
          <p:cNvSpPr/>
          <p:nvPr/>
        </p:nvSpPr>
        <p:spPr>
          <a:xfrm>
            <a:off x="0" y="38862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8" action="ppaction://hlinksldjump"/>
              </a:rPr>
              <a:t>Student 4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49" name="AutoShape 23"/>
          <p:cNvSpPr/>
          <p:nvPr/>
        </p:nvSpPr>
        <p:spPr>
          <a:xfrm>
            <a:off x="0" y="28954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9" action="ppaction://hlinksldjump"/>
              </a:rPr>
              <a:t>Student 3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50" name="AutoShape 24"/>
          <p:cNvSpPr/>
          <p:nvPr/>
        </p:nvSpPr>
        <p:spPr>
          <a:xfrm>
            <a:off x="0" y="1905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10" action="ppaction://hlinksldjump"/>
              </a:rPr>
              <a:t>Student 2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51" name="AutoShape 25"/>
          <p:cNvSpPr/>
          <p:nvPr/>
        </p:nvSpPr>
        <p:spPr>
          <a:xfrm>
            <a:off x="0" y="9144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11" action="ppaction://hlinksldjump"/>
              </a:rPr>
              <a:t>Student 1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52" name="AutoShape 26"/>
          <p:cNvSpPr/>
          <p:nvPr/>
        </p:nvSpPr>
        <p:spPr>
          <a:xfrm>
            <a:off x="2286000" y="38862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12" action="ppaction://hlinksldjump"/>
              </a:rPr>
              <a:t>Student 10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53" name="AutoShape 27"/>
          <p:cNvSpPr/>
          <p:nvPr/>
        </p:nvSpPr>
        <p:spPr>
          <a:xfrm>
            <a:off x="2286000" y="28954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13" action="ppaction://hlinksldjump"/>
              </a:rPr>
              <a:t>Student 9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54" name="AutoShape 28">
            <a:hlinkClick r:id="rId14" action="ppaction://hlinksldjump"/>
          </p:cNvPr>
          <p:cNvSpPr/>
          <p:nvPr/>
        </p:nvSpPr>
        <p:spPr>
          <a:xfrm>
            <a:off x="2286000" y="1905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15" action="ppaction://hlinksldjump"/>
              </a:rPr>
              <a:t>Student 8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55" name="AutoShape 29"/>
          <p:cNvSpPr/>
          <p:nvPr/>
        </p:nvSpPr>
        <p:spPr>
          <a:xfrm>
            <a:off x="2286000" y="9144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16" action="ppaction://hlinksldjump"/>
              </a:rPr>
              <a:t>Student 7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56" name="AutoShape 30"/>
          <p:cNvSpPr/>
          <p:nvPr/>
        </p:nvSpPr>
        <p:spPr>
          <a:xfrm>
            <a:off x="4572000" y="38862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17" action="ppaction://hlinksldjump"/>
              </a:rPr>
              <a:t>Student 16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57" name="AutoShape 31"/>
          <p:cNvSpPr/>
          <p:nvPr/>
        </p:nvSpPr>
        <p:spPr>
          <a:xfrm>
            <a:off x="4572000" y="28954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18" action="ppaction://hlinksldjump"/>
              </a:rPr>
              <a:t>Student 15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58" name="AutoShape 32"/>
          <p:cNvSpPr/>
          <p:nvPr/>
        </p:nvSpPr>
        <p:spPr>
          <a:xfrm>
            <a:off x="4572000" y="1905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19" action="ppaction://hlinksldjump"/>
              </a:rPr>
              <a:t>Student 14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59" name="AutoShape 33"/>
          <p:cNvSpPr/>
          <p:nvPr/>
        </p:nvSpPr>
        <p:spPr>
          <a:xfrm>
            <a:off x="4572000" y="9144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20" action="ppaction://hlinksldjump"/>
              </a:rPr>
              <a:t>Student 13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60" name="AutoShape 34"/>
          <p:cNvSpPr/>
          <p:nvPr/>
        </p:nvSpPr>
        <p:spPr>
          <a:xfrm>
            <a:off x="6858000" y="38862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21" action="ppaction://hlinksldjump"/>
              </a:rPr>
              <a:t>Student 22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61" name="AutoShape 35"/>
          <p:cNvSpPr/>
          <p:nvPr/>
        </p:nvSpPr>
        <p:spPr>
          <a:xfrm>
            <a:off x="6858000" y="28954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22" action="ppaction://hlinksldjump"/>
              </a:rPr>
              <a:t>Student 21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62" name="AutoShape 36"/>
          <p:cNvSpPr/>
          <p:nvPr/>
        </p:nvSpPr>
        <p:spPr>
          <a:xfrm>
            <a:off x="6858000" y="1905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23" action="ppaction://hlinksldjump"/>
              </a:rPr>
              <a:t>Student 20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63" name="AutoShape 37"/>
          <p:cNvSpPr/>
          <p:nvPr/>
        </p:nvSpPr>
        <p:spPr>
          <a:xfrm>
            <a:off x="6858000" y="9144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24" action="ppaction://hlinksldjump"/>
              </a:rPr>
              <a:t>Student 19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64" name="WordArt 38"/>
          <p:cNvSpPr txBox="1"/>
          <p:nvPr/>
        </p:nvSpPr>
        <p:spPr>
          <a:xfrm>
            <a:off x="1447920" y="228600"/>
            <a:ext cx="581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ol Reading Activitie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AutoShape 40"/>
          <p:cNvSpPr/>
          <p:nvPr/>
        </p:nvSpPr>
        <p:spPr>
          <a:xfrm>
            <a:off x="68580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25" action="ppaction://hlinksldjump"/>
              </a:rPr>
              <a:t>SCORING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26" action="ppaction://hlinksldjump"/>
              </a:rPr>
              <a:t>RUBRIC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524400" y="182880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Check out..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-14040" y="3794040"/>
            <a:ext cx="921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Read a News Scoop article of your choice.  Write a paragraph 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explaining why you would or would not recommend this article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to a friend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107" name="AutoShape 6">
            <a:hlinkClick r:id="" action="ppaction://hlinkshowjump?jump=firstslide"/>
          </p:cNvPr>
          <p:cNvSpPr/>
          <p:nvPr/>
        </p:nvSpPr>
        <p:spPr>
          <a:xfrm>
            <a:off x="8229600" y="586728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10800" y="4738"/>
                </a:moveTo>
                <a:lnTo>
                  <a:pt x="13376" y="7349"/>
                </a:lnTo>
                <a:lnTo>
                  <a:pt x="13376" y="5608"/>
                </a:lnTo>
                <a:lnTo>
                  <a:pt x="15152" y="5608"/>
                </a:lnTo>
                <a:lnTo>
                  <a:pt x="15152" y="9125"/>
                </a:lnTo>
                <a:lnTo>
                  <a:pt x="17763" y="11701"/>
                </a:lnTo>
                <a:lnTo>
                  <a:pt x="16109" y="11701"/>
                </a:lnTo>
                <a:lnTo>
                  <a:pt x="16109" y="18890"/>
                </a:lnTo>
                <a:lnTo>
                  <a:pt x="5491" y="18890"/>
                </a:lnTo>
                <a:lnTo>
                  <a:pt x="5491" y="11701"/>
                </a:lnTo>
                <a:lnTo>
                  <a:pt x="3837" y="11701"/>
                </a:lnTo>
                <a:close/>
              </a:path>
              <a:path fill="darkenLess" w="21600" h="23402">
                <a:moveTo>
                  <a:pt x="13376" y="7349"/>
                </a:moveTo>
                <a:lnTo>
                  <a:pt x="13376" y="5608"/>
                </a:lnTo>
                <a:lnTo>
                  <a:pt x="15152" y="5608"/>
                </a:lnTo>
                <a:lnTo>
                  <a:pt x="15152" y="9125"/>
                </a:lnTo>
                <a:close/>
              </a:path>
              <a:path fill="darkenLess" w="21600" h="23402">
                <a:moveTo>
                  <a:pt x="9877" y="15200"/>
                </a:moveTo>
                <a:lnTo>
                  <a:pt x="11723" y="15200"/>
                </a:lnTo>
                <a:lnTo>
                  <a:pt x="11723" y="18890"/>
                </a:lnTo>
                <a:lnTo>
                  <a:pt x="16109" y="18890"/>
                </a:lnTo>
                <a:lnTo>
                  <a:pt x="16109" y="11701"/>
                </a:lnTo>
                <a:lnTo>
                  <a:pt x="5491" y="11701"/>
                </a:lnTo>
                <a:lnTo>
                  <a:pt x="5491" y="18890"/>
                </a:lnTo>
                <a:lnTo>
                  <a:pt x="9877" y="1889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pic>
        <p:nvPicPr>
          <p:cNvPr id="108" name="Picture 9" descr="timeforkids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2743200"/>
            <a:ext cx="15890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>
            <a:hlinkClick r:id="" action="ppaction://hlinkshowjump?jump=firstslide"/>
          </p:cNvPr>
          <p:cNvSpPr/>
          <p:nvPr/>
        </p:nvSpPr>
        <p:spPr>
          <a:xfrm>
            <a:off x="830592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pic>
        <p:nvPicPr>
          <p:cNvPr id="110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2590920"/>
            <a:ext cx="1685880" cy="1349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2171520" y="1736640"/>
            <a:ext cx="45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Hop, jump or skip on over to..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-48240" y="4327560"/>
            <a:ext cx="897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Read an article of your choice and enlighten the rest of us!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Write a paragraph summarizing the highlights of your article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graphicFrame>
        <p:nvGraphicFramePr>
          <p:cNvPr id="114" name="Object 2"/>
          <p:cNvGraphicFramePr/>
          <p:nvPr/>
        </p:nvGraphicFramePr>
        <p:xfrm>
          <a:off x="3738600" y="2652840"/>
          <a:ext cx="1666800" cy="15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2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8600" y="2652840"/>
                    <a:ext cx="166680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4"/>
          <p:cNvSpPr/>
          <p:nvPr/>
        </p:nvSpPr>
        <p:spPr>
          <a:xfrm>
            <a:off x="557280" y="1584360"/>
            <a:ext cx="80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Read a Poem from Shel Silverstein’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chitect"/>
              </a:rPr>
              <a:t>A Light in the Attic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64680" y="4479840"/>
            <a:ext cx="845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Be prepared to read this aloud for the class.  Do you like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his poetry?  Write a paragraph explaining why or why not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3995640" y="2890800"/>
            <a:ext cx="1152720" cy="1076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752480" y="2895480"/>
            <a:ext cx="1152720" cy="1076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3"/>
          <a:stretch/>
        </p:blipFill>
        <p:spPr>
          <a:xfrm>
            <a:off x="6248520" y="2895480"/>
            <a:ext cx="1152360" cy="1076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4"/>
          <a:stretch/>
        </p:blipFill>
        <p:spPr>
          <a:xfrm>
            <a:off x="2895480" y="2895480"/>
            <a:ext cx="1152720" cy="1076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5"/>
          <a:stretch/>
        </p:blipFill>
        <p:spPr>
          <a:xfrm>
            <a:off x="5105520" y="2895480"/>
            <a:ext cx="1152360" cy="1076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6"/>
          <a:stretch/>
        </p:blipFill>
        <p:spPr>
          <a:xfrm>
            <a:off x="0" y="2895480"/>
            <a:ext cx="1152360" cy="1076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7"/>
          <a:stretch/>
        </p:blipFill>
        <p:spPr>
          <a:xfrm>
            <a:off x="7391520" y="2895480"/>
            <a:ext cx="1152360" cy="107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8"/>
          <a:stretch/>
        </p:blipFill>
        <p:spPr>
          <a:xfrm>
            <a:off x="609480" y="2895480"/>
            <a:ext cx="1152720" cy="1076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"/>
          <p:cNvPicPr/>
          <p:nvPr/>
        </p:nvPicPr>
        <p:blipFill>
          <a:blip r:embed="rId9"/>
          <a:stretch/>
        </p:blipFill>
        <p:spPr>
          <a:xfrm>
            <a:off x="7991640" y="2895480"/>
            <a:ext cx="1152360" cy="1076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62120" y="1523880"/>
            <a:ext cx="2743200" cy="38102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3"/>
          <p:cNvSpPr/>
          <p:nvPr/>
        </p:nvSpPr>
        <p:spPr>
          <a:xfrm>
            <a:off x="3299760" y="1584360"/>
            <a:ext cx="428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Read the first chapter from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chitect"/>
              </a:rPr>
              <a:t>The Wonderful Wizard of Oz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3351240" y="4175280"/>
            <a:ext cx="576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What happens?  Write a summary of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the first chapter.  You can read the rest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of the book online, a chapter at a time!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006440" y="2286000"/>
            <a:ext cx="479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Read one of Aesop’s Fables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Can you explain the lesson to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be learned?  Who would benefit 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from reading this fable?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pic>
        <p:nvPicPr>
          <p:cNvPr id="133" name="Picture 6" descr="Aesop's Fables Online Collec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590920"/>
            <a:ext cx="3333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3581280" y="2209680"/>
            <a:ext cx="1771920" cy="1754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433800" y="1127160"/>
            <a:ext cx="815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Go on an adventure with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chitect"/>
              </a:rPr>
              <a:t>Harold and the Purple Crayon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-142200" y="4098960"/>
            <a:ext cx="930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Keep a log of your travels to share with the class!  Give us a quiz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at the end to see if we remember everywhere you went!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-240120" y="1355760"/>
            <a:ext cx="98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Visit the National Wildlife Federation’s “Keep the Wild Alive” section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302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pic>
        <p:nvPicPr>
          <p:cNvPr id="141" name="Picture 3" descr="Keep the Wild Alive"/>
          <p:cNvPicPr/>
          <p:nvPr/>
        </p:nvPicPr>
        <p:blipFill>
          <a:blip r:embed="rId1"/>
          <a:stretch/>
        </p:blipFill>
        <p:spPr>
          <a:xfrm>
            <a:off x="3505320" y="1828800"/>
            <a:ext cx="1463400" cy="21495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304920" y="4038480"/>
            <a:ext cx="8196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Read the Species Spotlight for the month and take the quiz, too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Write a summary of your findings and convince us to “Keep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The Wild Alive!”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pic>
        <p:nvPicPr>
          <p:cNvPr id="144" name="Picture 11" descr="Help Save Endangered Species"/>
          <p:cNvPicPr/>
          <p:nvPr/>
        </p:nvPicPr>
        <p:blipFill>
          <a:blip r:embed="rId1"/>
          <a:stretch/>
        </p:blipFill>
        <p:spPr>
          <a:xfrm>
            <a:off x="1905120" y="685800"/>
            <a:ext cx="5268960" cy="19432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2"/>
          <p:cNvSpPr/>
          <p:nvPr/>
        </p:nvSpPr>
        <p:spPr>
          <a:xfrm>
            <a:off x="189360" y="3124080"/>
            <a:ext cx="864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Visit the Educational Resources section of the 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National Wildlife Federation site. 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  <a:ea typeface="Arial"/>
              </a:rPr>
              <a:t>Choose one of the resources for to learn about 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  <a:ea typeface="Arial"/>
              </a:rPr>
              <a:t>endangered species and their way of life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  <a:ea typeface="Arial"/>
              </a:rPr>
              <a:t>Write a summary of your findings for the class.  Convince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  <a:ea typeface="Arial"/>
              </a:rPr>
              <a:t>us that we should work to protect this endangered species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714600" cy="1619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1523880" y="1600200"/>
            <a:ext cx="3476880" cy="9237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916280" y="2575080"/>
            <a:ext cx="715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Visit this amazing site and click on your favorite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ubject.  Then find a FEATURE ARTICLE you are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interested in.  Read it, write a summary of your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findings and be ready to give a magical report to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the class.  Good luck on your journey!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2"/>
          <p:cNvSpPr txBox="1"/>
          <p:nvPr/>
        </p:nvSpPr>
        <p:spPr>
          <a:xfrm>
            <a:off x="2438280" y="304920"/>
            <a:ext cx="4114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coring Rubric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7200" y="1397160"/>
          <a:ext cx="8381880" cy="465264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2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chite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chitect"/>
                        </a:rPr>
                        <a:t>Included copy of chosen pie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chite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chitect"/>
                        </a:rPr>
                        <a:t>All questions in prompt are answere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chite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chitect"/>
                        </a:rPr>
                        <a:t>Answer is easy to read and understand and is very nea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chite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chite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chitect"/>
                        </a:rPr>
                        <a:t>Included copy of chosen pie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chite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chitect"/>
                        </a:rPr>
                        <a:t>Most questions in prompt are answere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chite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chitect"/>
                        </a:rPr>
                        <a:t>Answer is easy to read and understan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chite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chite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chitect"/>
                        </a:rPr>
                        <a:t>Included copy of chosen pie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chite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chitect"/>
                        </a:rPr>
                        <a:t>Some questions in prompt are answere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chite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chitect"/>
                        </a:rPr>
                        <a:t>Answer is a little hard to read and understan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chite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chite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chitect"/>
                        </a:rPr>
                        <a:t>Copy of chosen piece not includ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chite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chitect"/>
                        </a:rPr>
                        <a:t>Small part of questions in prompt are answere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chite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chitect"/>
                        </a:rPr>
                        <a:t>Answer is hard to read and/or does not make sens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chite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WordArt 37"/>
          <p:cNvSpPr txBox="1"/>
          <p:nvPr/>
        </p:nvSpPr>
        <p:spPr>
          <a:xfrm>
            <a:off x="1371600" y="1752480"/>
            <a:ext cx="5335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4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WordArt 39"/>
          <p:cNvSpPr txBox="1"/>
          <p:nvPr/>
        </p:nvSpPr>
        <p:spPr>
          <a:xfrm>
            <a:off x="1371600" y="2819520"/>
            <a:ext cx="5335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3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WordArt 40"/>
          <p:cNvSpPr txBox="1"/>
          <p:nvPr/>
        </p:nvSpPr>
        <p:spPr>
          <a:xfrm>
            <a:off x="1371600" y="3886200"/>
            <a:ext cx="5335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41"/>
          <p:cNvSpPr txBox="1"/>
          <p:nvPr/>
        </p:nvSpPr>
        <p:spPr>
          <a:xfrm>
            <a:off x="1295280" y="5029200"/>
            <a:ext cx="5335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AutoShape 358">
            <a:hlinkClick r:id="" action="ppaction://hlinkshowjump?jump=firstslide"/>
          </p:cNvPr>
          <p:cNvSpPr/>
          <p:nvPr/>
        </p:nvSpPr>
        <p:spPr>
          <a:xfrm>
            <a:off x="8001000" y="60199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14728" y="3837"/>
                </a:moveTo>
                <a:lnTo>
                  <a:pt x="17304" y="6448"/>
                </a:lnTo>
                <a:lnTo>
                  <a:pt x="17304" y="4707"/>
                </a:lnTo>
                <a:lnTo>
                  <a:pt x="19080" y="4707"/>
                </a:lnTo>
                <a:lnTo>
                  <a:pt x="19080" y="8224"/>
                </a:lnTo>
                <a:lnTo>
                  <a:pt x="21691" y="10800"/>
                </a:lnTo>
                <a:lnTo>
                  <a:pt x="20037" y="10800"/>
                </a:lnTo>
                <a:lnTo>
                  <a:pt x="20037" y="17989"/>
                </a:lnTo>
                <a:lnTo>
                  <a:pt x="9418" y="17989"/>
                </a:lnTo>
                <a:lnTo>
                  <a:pt x="9418" y="10800"/>
                </a:lnTo>
                <a:lnTo>
                  <a:pt x="7765" y="10800"/>
                </a:lnTo>
                <a:close/>
              </a:path>
              <a:path fill="darkenLess" w="29455" h="21600">
                <a:moveTo>
                  <a:pt x="17304" y="6448"/>
                </a:moveTo>
                <a:lnTo>
                  <a:pt x="17304" y="4707"/>
                </a:lnTo>
                <a:lnTo>
                  <a:pt x="19080" y="4707"/>
                </a:lnTo>
                <a:lnTo>
                  <a:pt x="19080" y="8224"/>
                </a:lnTo>
                <a:close/>
              </a:path>
              <a:path fill="darkenLess" w="29455" h="21600">
                <a:moveTo>
                  <a:pt x="13805" y="14299"/>
                </a:moveTo>
                <a:lnTo>
                  <a:pt x="15650" y="14299"/>
                </a:lnTo>
                <a:lnTo>
                  <a:pt x="15650" y="17989"/>
                </a:lnTo>
                <a:lnTo>
                  <a:pt x="20037" y="17989"/>
                </a:lnTo>
                <a:lnTo>
                  <a:pt x="20037" y="10800"/>
                </a:lnTo>
                <a:lnTo>
                  <a:pt x="9418" y="10800"/>
                </a:lnTo>
                <a:lnTo>
                  <a:pt x="9418" y="17989"/>
                </a:lnTo>
                <a:lnTo>
                  <a:pt x="13805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>
            <a:hlinkClick r:id="" action="ppaction://hlinkshowjump?jump=firstslide"/>
          </p:cNvPr>
          <p:cNvSpPr/>
          <p:nvPr/>
        </p:nvSpPr>
        <p:spPr>
          <a:xfrm>
            <a:off x="8223120" y="59436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64800" y="1584360"/>
            <a:ext cx="88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Check out the Dear America Books section of Scholastic.com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53080" y="4098960"/>
            <a:ext cx="86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elect a title and read an excerpt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Do you want to read the rest of the book?  Why or why not?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pic>
        <p:nvPicPr>
          <p:cNvPr id="69" name="Picture 9" descr="dabookshd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09960" y="2989440"/>
            <a:ext cx="4925880" cy="87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>
            <a:hlinkClick r:id="" action="ppaction://hlinkshowjump?jump=firstslide"/>
          </p:cNvPr>
          <p:cNvSpPr/>
          <p:nvPr/>
        </p:nvSpPr>
        <p:spPr>
          <a:xfrm>
            <a:off x="7924680" y="586728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10800" y="5038"/>
                </a:moveTo>
                <a:lnTo>
                  <a:pt x="13376" y="7649"/>
                </a:lnTo>
                <a:lnTo>
                  <a:pt x="13376" y="5909"/>
                </a:lnTo>
                <a:lnTo>
                  <a:pt x="15152" y="5909"/>
                </a:lnTo>
                <a:lnTo>
                  <a:pt x="15152" y="9425"/>
                </a:lnTo>
                <a:lnTo>
                  <a:pt x="17763" y="12001"/>
                </a:lnTo>
                <a:lnTo>
                  <a:pt x="16109" y="12001"/>
                </a:lnTo>
                <a:lnTo>
                  <a:pt x="16109" y="19191"/>
                </a:lnTo>
                <a:lnTo>
                  <a:pt x="5491" y="19191"/>
                </a:lnTo>
                <a:lnTo>
                  <a:pt x="5491" y="12001"/>
                </a:lnTo>
                <a:lnTo>
                  <a:pt x="3837" y="12001"/>
                </a:lnTo>
                <a:close/>
              </a:path>
              <a:path fill="darkenLess" w="21600" h="24003">
                <a:moveTo>
                  <a:pt x="13376" y="7649"/>
                </a:moveTo>
                <a:lnTo>
                  <a:pt x="13376" y="5909"/>
                </a:lnTo>
                <a:lnTo>
                  <a:pt x="15152" y="5909"/>
                </a:lnTo>
                <a:lnTo>
                  <a:pt x="15152" y="9425"/>
                </a:lnTo>
                <a:close/>
              </a:path>
              <a:path fill="darkenLess" w="21600" h="24003">
                <a:moveTo>
                  <a:pt x="9877" y="15500"/>
                </a:moveTo>
                <a:lnTo>
                  <a:pt x="11723" y="15500"/>
                </a:lnTo>
                <a:lnTo>
                  <a:pt x="11723" y="19191"/>
                </a:lnTo>
                <a:lnTo>
                  <a:pt x="16109" y="19191"/>
                </a:lnTo>
                <a:lnTo>
                  <a:pt x="16109" y="12001"/>
                </a:lnTo>
                <a:lnTo>
                  <a:pt x="5491" y="12001"/>
                </a:lnTo>
                <a:lnTo>
                  <a:pt x="5491" y="19191"/>
                </a:lnTo>
                <a:lnTo>
                  <a:pt x="9877" y="19191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117160" y="1752480"/>
            <a:ext cx="471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1"/>
              </a:rPr>
              <a:t>Visit Consumer Reports for Kids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-93240" y="4022640"/>
            <a:ext cx="928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and pick a report of your choice under ANY topic.  Tell us what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you find out by writing a brief summary of the report’s findings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Will this affect your future purchases?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grpSp>
        <p:nvGrpSpPr>
          <p:cNvPr id="73" name="Group 1049"/>
          <p:cNvGrpSpPr/>
          <p:nvPr/>
        </p:nvGrpSpPr>
        <p:grpSpPr>
          <a:xfrm>
            <a:off x="2438280" y="2362320"/>
            <a:ext cx="3505320" cy="914400"/>
            <a:chOff x="2438280" y="2362320"/>
            <a:chExt cx="3505320" cy="914400"/>
          </a:xfrm>
        </p:grpSpPr>
        <p:pic>
          <p:nvPicPr>
            <p:cNvPr id="74" name="Picture 1042" descr="Kids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4800600" y="2819520"/>
              <a:ext cx="1143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1034" descr="Consumer Reports Online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2666880" y="2362320"/>
              <a:ext cx="205740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1038" descr="Consumer Reports Online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2438280" y="2819520"/>
              <a:ext cx="20574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1046" descr="For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4800600" y="2438280"/>
              <a:ext cx="1143000" cy="365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447920"/>
            <a:ext cx="6910200" cy="8539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-49680" y="2727360"/>
            <a:ext cx="91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It’s up to you!  Choose any article to read (that we haven’t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discussed in class before) from the National Geographic World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Kids Archive.  Write a summary to share with the class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80" name="AutoShape 5">
            <a:hlinkClick r:id="" action="ppaction://hlinkshowjump?jump=firstslide"/>
          </p:cNvPr>
          <p:cNvSpPr/>
          <p:nvPr/>
        </p:nvSpPr>
        <p:spPr>
          <a:xfrm>
            <a:off x="7924680" y="58672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12957" y="3837"/>
                </a:moveTo>
                <a:lnTo>
                  <a:pt x="15533" y="6448"/>
                </a:ln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lnTo>
                  <a:pt x="19920" y="10800"/>
                </a:lnTo>
                <a:lnTo>
                  <a:pt x="18266" y="10800"/>
                </a:lnTo>
                <a:lnTo>
                  <a:pt x="18266" y="17989"/>
                </a:lnTo>
                <a:lnTo>
                  <a:pt x="7648" y="17989"/>
                </a:lnTo>
                <a:lnTo>
                  <a:pt x="7648" y="10800"/>
                </a:lnTo>
                <a:lnTo>
                  <a:pt x="5994" y="10800"/>
                </a:lnTo>
                <a:close/>
              </a:path>
              <a:path fill="darkenLess" w="25914" h="21600">
                <a:moveTo>
                  <a:pt x="15533" y="6448"/>
                </a:move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close/>
              </a:path>
              <a:path fill="darkenLess" w="25914" h="21600">
                <a:moveTo>
                  <a:pt x="12034" y="14299"/>
                </a:moveTo>
                <a:lnTo>
                  <a:pt x="13880" y="14299"/>
                </a:lnTo>
                <a:lnTo>
                  <a:pt x="13880" y="17989"/>
                </a:lnTo>
                <a:lnTo>
                  <a:pt x="18266" y="17989"/>
                </a:lnTo>
                <a:lnTo>
                  <a:pt x="18266" y="10800"/>
                </a:lnTo>
                <a:lnTo>
                  <a:pt x="7648" y="10800"/>
                </a:lnTo>
                <a:lnTo>
                  <a:pt x="7648" y="17989"/>
                </a:lnTo>
                <a:lnTo>
                  <a:pt x="12034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2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1905120"/>
            <a:ext cx="1765440" cy="21524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27"/>
          <p:cNvSpPr/>
          <p:nvPr/>
        </p:nvSpPr>
        <p:spPr>
          <a:xfrm>
            <a:off x="1509480" y="898560"/>
            <a:ext cx="55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Visit Scholastic.com’s Article Archives!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83" name="Text Box 1028"/>
          <p:cNvSpPr/>
          <p:nvPr/>
        </p:nvSpPr>
        <p:spPr>
          <a:xfrm>
            <a:off x="-165600" y="4403880"/>
            <a:ext cx="89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Choose any category you wish and then a related article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Teach the class something new!  Write a paragraph to record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your findings!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84" name="AutoShape 1029">
            <a:hlinkClick r:id="" action="ppaction://hlinkshowjump?jump=firstslide"/>
          </p:cNvPr>
          <p:cNvSpPr/>
          <p:nvPr/>
        </p:nvSpPr>
        <p:spPr>
          <a:xfrm>
            <a:off x="8153280" y="58672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2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981080"/>
            <a:ext cx="3891240" cy="17449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27"/>
          <p:cNvSpPr/>
          <p:nvPr/>
        </p:nvSpPr>
        <p:spPr>
          <a:xfrm>
            <a:off x="1849680" y="1108080"/>
            <a:ext cx="54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Pick one article of your choice from..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87" name="Text Box 1028"/>
          <p:cNvSpPr/>
          <p:nvPr/>
        </p:nvSpPr>
        <p:spPr>
          <a:xfrm>
            <a:off x="1648800" y="4191120"/>
            <a:ext cx="63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and write a summary of it to share in class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88" name="AutoShape 1029">
            <a:hlinkClick r:id="" action="ppaction://hlinkshowjump?jump=firstslide"/>
          </p:cNvPr>
          <p:cNvSpPr/>
          <p:nvPr/>
        </p:nvSpPr>
        <p:spPr>
          <a:xfrm>
            <a:off x="7848720" y="54864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10800" y="5038"/>
                </a:moveTo>
                <a:lnTo>
                  <a:pt x="13376" y="7649"/>
                </a:lnTo>
                <a:lnTo>
                  <a:pt x="13376" y="5909"/>
                </a:lnTo>
                <a:lnTo>
                  <a:pt x="15152" y="5909"/>
                </a:lnTo>
                <a:lnTo>
                  <a:pt x="15152" y="9425"/>
                </a:lnTo>
                <a:lnTo>
                  <a:pt x="17763" y="12001"/>
                </a:lnTo>
                <a:lnTo>
                  <a:pt x="16109" y="12001"/>
                </a:lnTo>
                <a:lnTo>
                  <a:pt x="16109" y="19191"/>
                </a:lnTo>
                <a:lnTo>
                  <a:pt x="5491" y="19191"/>
                </a:lnTo>
                <a:lnTo>
                  <a:pt x="5491" y="12001"/>
                </a:lnTo>
                <a:lnTo>
                  <a:pt x="3837" y="12001"/>
                </a:lnTo>
                <a:close/>
              </a:path>
              <a:path fill="darkenLess" w="21600" h="24003">
                <a:moveTo>
                  <a:pt x="13376" y="7649"/>
                </a:moveTo>
                <a:lnTo>
                  <a:pt x="13376" y="5909"/>
                </a:lnTo>
                <a:lnTo>
                  <a:pt x="15152" y="5909"/>
                </a:lnTo>
                <a:lnTo>
                  <a:pt x="15152" y="9425"/>
                </a:lnTo>
                <a:close/>
              </a:path>
              <a:path fill="darkenLess" w="21600" h="24003">
                <a:moveTo>
                  <a:pt x="9877" y="15500"/>
                </a:moveTo>
                <a:lnTo>
                  <a:pt x="11723" y="15500"/>
                </a:lnTo>
                <a:lnTo>
                  <a:pt x="11723" y="19191"/>
                </a:lnTo>
                <a:lnTo>
                  <a:pt x="16109" y="19191"/>
                </a:lnTo>
                <a:lnTo>
                  <a:pt x="16109" y="12001"/>
                </a:lnTo>
                <a:lnTo>
                  <a:pt x="5491" y="12001"/>
                </a:lnTo>
                <a:lnTo>
                  <a:pt x="5491" y="19191"/>
                </a:lnTo>
                <a:lnTo>
                  <a:pt x="9877" y="19191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568080" y="4479840"/>
            <a:ext cx="80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Write a summary to share with the class trying to teach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us something new.  (Now that’s going to be hard!)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90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3906720" y="27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231920" y="27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2886120" y="2828880"/>
            <a:ext cx="33717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3360600"/>
            <a:ext cx="914400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pic>
        <p:nvPicPr>
          <p:cNvPr id="95" name="Picture 8" descr="The Why Files, a magazine focusing on the science behind today's news stori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7480" y="2857680"/>
            <a:ext cx="3029040" cy="1143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667440" y="1660680"/>
            <a:ext cx="752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Visit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3"/>
              </a:rPr>
              <a:t>www.whyfiles.org</a:t>
            </a: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 and select an article to read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157320" y="762120"/>
            <a:ext cx="84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Visit Nutrition Explorations and read the Featured Recipe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31040" y="4022640"/>
            <a:ext cx="86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Does this recipe look easy for a kid to make?  How does the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organization of this recipe make it easy to follow?  Are you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going to try it out?  If so, bring the class some snacks!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99" name="AutoShape 5">
            <a:hlinkClick r:id="" action="ppaction://hlinkshowjump?jump=firstslide"/>
          </p:cNvPr>
          <p:cNvSpPr/>
          <p:nvPr/>
        </p:nvSpPr>
        <p:spPr>
          <a:xfrm>
            <a:off x="8077320" y="58672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pic>
        <p:nvPicPr>
          <p:cNvPr id="100" name="Picture 7" descr="Kids Kitch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1295280"/>
            <a:ext cx="2354400" cy="27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2133720"/>
            <a:ext cx="1933560" cy="16570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1669680" y="1279440"/>
            <a:ext cx="53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Visit the Time for Kids News Section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09800" y="4022640"/>
            <a:ext cx="84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Read an article of your choice.  Try to teach the class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omething we don’t already know. (Now that’s going to be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tough!)  Write a paragraph summarizing your findings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104" name="AutoShape 5">
            <a:hlinkClick r:id="" action="ppaction://hlinkshowjump?jump=firstslide"/>
          </p:cNvPr>
          <p:cNvSpPr/>
          <p:nvPr/>
        </p:nvSpPr>
        <p:spPr>
          <a:xfrm>
            <a:off x="8001000" y="563868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10800" y="4558"/>
                </a:moveTo>
                <a:lnTo>
                  <a:pt x="13376" y="7169"/>
                </a:ln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lnTo>
                  <a:pt x="17763" y="11521"/>
                </a:lnTo>
                <a:lnTo>
                  <a:pt x="16109" y="11521"/>
                </a:lnTo>
                <a:lnTo>
                  <a:pt x="16109" y="18710"/>
                </a:lnTo>
                <a:lnTo>
                  <a:pt x="5491" y="18710"/>
                </a:lnTo>
                <a:lnTo>
                  <a:pt x="5491" y="11521"/>
                </a:lnTo>
                <a:lnTo>
                  <a:pt x="3837" y="11521"/>
                </a:lnTo>
                <a:close/>
              </a:path>
              <a:path fill="darkenLess" w="21600" h="23042">
                <a:moveTo>
                  <a:pt x="13376" y="7169"/>
                </a:move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close/>
              </a:path>
              <a:path fill="darkenLess" w="21600" h="23042">
                <a:moveTo>
                  <a:pt x="9877" y="15020"/>
                </a:moveTo>
                <a:lnTo>
                  <a:pt x="11723" y="15020"/>
                </a:lnTo>
                <a:lnTo>
                  <a:pt x="11723" y="18710"/>
                </a:lnTo>
                <a:lnTo>
                  <a:pt x="16109" y="18710"/>
                </a:lnTo>
                <a:lnTo>
                  <a:pt x="16109" y="11521"/>
                </a:lnTo>
                <a:lnTo>
                  <a:pt x="5491" y="11521"/>
                </a:lnTo>
                <a:lnTo>
                  <a:pt x="5491" y="18710"/>
                </a:lnTo>
                <a:lnTo>
                  <a:pt x="9877" y="1871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20:57:16Z</dcterms:created>
  <dc:creator>Michelle Johnson</dc:creator>
  <dc:description/>
  <dc:language>en-US</dc:language>
  <cp:lastModifiedBy>Amy</cp:lastModifiedBy>
  <dcterms:modified xsi:type="dcterms:W3CDTF">2012-07-04T16:36:04Z</dcterms:modified>
  <cp:revision>104</cp:revision>
  <dc:subject/>
  <dc:title>No Slide Title</dc:title>
</cp:coreProperties>
</file>